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QUEENS_5FBEAT1_5F79BPM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02B-FBAC-4CEA-80BF-C387DDF4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9A7-129C-44E9-B26D-E0B07254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583-2CD2-43DF-957C-FBB6B31B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DDD-F00B-4C13-9151-0586217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8FD-FFB4-4D74-ABF8-3CFC229F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BC68-9E48-42E0-8E85-A8ACEF8D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4A7-96D7-4E02-9F24-BB511D79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ABE-06DE-4F36-8F68-1759F67B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85D-47F1-4B9C-9272-643DD3F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9C7-DB50-41E4-86E9-ACB0E2F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62A-D144-410F-ADEA-9A48AAA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9E6-8D7E-42C1-A862-DC950F7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1FB0-2AD1-497F-82F3-6F3A4BA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8AE9-4FB3-41C3-B842-92DDDCE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845-62AC-47CB-8E66-9FF6C201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194-0DDF-488C-BDB4-D8F1101A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7649-7B42-4410-B3F9-8FE56EAF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B32-AC27-4582-BFDA-68B3C3D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90B-AA2C-4447-B631-6695AAA9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0FE-3F7E-4838-9A52-B06D279D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673-DBE5-427E-B352-3B83AC6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73F-B17A-4282-AFDC-D14CD983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B0B-8632-45B4-B4AE-2ECD5E1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A3D-7C8A-4C35-A035-FC45558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7E5-FE10-428A-B6CB-0DF83331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6BA9-B390-4458-A7D3-7E06F8AD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EENS_5FBEAT1_5F79BPM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QUEENS_5FBEAT1_5F79BPM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QUEENS_5FBEAT1_5F79BPM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QUEENS_5FBEAT1_5F79BPM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QUEENS_5FBEAT1_5F79BPM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gradFill rotWithShape="0">
            <a:gsLst>
              <a:gs pos="0">
                <a:srgbClr val="993300">
                  <a:alpha val="70196"/>
                </a:srgbClr>
              </a:gs>
              <a:gs pos="50000">
                <a:srgbClr val="c8da6c">
                  <a:alpha val="35294"/>
                </a:srgbClr>
              </a:gs>
              <a:gs pos="100000">
                <a:srgbClr val="9933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3444840" cy="15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500" spc="-1" strike="noStrike">
                <a:solidFill>
                  <a:srgbClr val="993300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9500" spc="-1" strike="noStrike">
                <a:solidFill>
                  <a:srgbClr val="993300"/>
                </a:solidFill>
                <a:latin typeface="Angsana New"/>
                <a:ea typeface="KodchiangUPC"/>
              </a:rPr>
              <a:t>13</a:t>
            </a:r>
            <a:endParaRPr b="0" lang="en-US" sz="9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120000" cy="165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dd9d1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800" spc="-1" strike="noStrike">
                <a:solidFill>
                  <a:srgbClr val="ff9966"/>
                </a:solidFill>
                <a:latin typeface="Arial"/>
                <a:cs typeface="LilyUPC"/>
              </a:rPr>
              <a:t>แฟกเตอร์กำลัง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 spokes="8"/>
    <p:sndAc>
      <p:stSnd>
        <p:snd r:embed="rId2" name="QUEENS_5FBEAT1_5F79BP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gradFill rotWithShape="0">
            <a:gsLst>
              <a:gs pos="0">
                <a:srgbClr val="993300">
                  <a:alpha val="70196"/>
                </a:srgbClr>
              </a:gs>
              <a:gs pos="50000">
                <a:srgbClr val="c8da6c">
                  <a:alpha val="35294"/>
                </a:srgbClr>
              </a:gs>
              <a:gs pos="100000">
                <a:srgbClr val="9933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0"/>
            <a:ext cx="5454720" cy="368280"/>
          </a:xfrm>
          <a:prstGeom prst="rect">
            <a:avLst/>
          </a:prstGeom>
          <a:gradFill rotWithShape="0">
            <a:gsLst>
              <a:gs pos="0">
                <a:srgbClr val="474d4b"/>
              </a:gs>
              <a:gs pos="50000">
                <a:srgbClr val="9ca8a4"/>
              </a:gs>
              <a:gs pos="100000">
                <a:srgbClr val="474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แฟกเตอร์กำลัง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ำลังไฟฟ้าในวงจรไฟกระแสสลั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dd9d1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993300"/>
                </a:solidFill>
                <a:latin typeface="Arial"/>
                <a:cs typeface="LilyUPC"/>
              </a:rPr>
              <a:t>กำลังไฟฟ้าในวงจรไฟกระแสสลับ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18920" y="1844280"/>
            <a:ext cx="6481800" cy="6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dd9d1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000000"/>
                </a:solidFill>
                <a:latin typeface="Arial"/>
                <a:cs typeface="LilyUPC"/>
              </a:rPr>
              <a:t>กำลังไฟฟ้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132000" y="1844640"/>
                <a:ext cx="79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340000" y="3213000"/>
                <a:ext cx="4287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4437000"/>
                <a:ext cx="284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cosθ</m:t>
                    </m:r>
                  </m:oMath>
                </a14:m>
              </a:p>
            </p:txBody>
          </p:sp>
        </mc:Choice>
        <mc:Fallback/>
      </mc:AlternateContent>
    </p:spTree>
  </p:cSld>
  <p:transition spd="slow" advTm="30000">
    <p:wheel spokes="8"/>
    <p:sndAc>
      <p:stSnd>
        <p:snd r:embed="rId3" name="QUEENS_5FBEAT1_5F79BPM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gradFill rotWithShape="0">
            <a:gsLst>
              <a:gs pos="0">
                <a:srgbClr val="993300">
                  <a:alpha val="70196"/>
                </a:srgbClr>
              </a:gs>
              <a:gs pos="50000">
                <a:srgbClr val="c8da6c">
                  <a:alpha val="35294"/>
                </a:srgbClr>
              </a:gs>
              <a:gs pos="100000">
                <a:srgbClr val="9933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564000" y="907920"/>
                <a:ext cx="863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627280" y="1916280"/>
                <a:ext cx="35290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กระแสเหมือน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I cos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7280" y="2637000"/>
                <a:ext cx="3529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กระแสเฟสต่าง  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I sin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27280" y="3500280"/>
                <a:ext cx="216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sin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627280" y="4149720"/>
                <a:ext cx="41054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627280" y="5229360"/>
                <a:ext cx="41245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403280" y="0"/>
            <a:ext cx="5454720" cy="368280"/>
          </a:xfrm>
          <a:prstGeom prst="rect">
            <a:avLst/>
          </a:prstGeom>
          <a:gradFill rotWithShape="0">
            <a:gsLst>
              <a:gs pos="0">
                <a:srgbClr val="474d4b"/>
              </a:gs>
              <a:gs pos="50000">
                <a:srgbClr val="9ca8a4"/>
              </a:gs>
              <a:gs pos="100000">
                <a:srgbClr val="474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แฟกเตอร์กำลัง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ำลังไฟฟ้าในวงจรไฟกระแสสลั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5313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000000"/>
                </a:solidFill>
                <a:latin typeface="Arial"/>
                <a:cs typeface="LilyUPC"/>
              </a:rPr>
              <a:t>กำลังไฟฟ้าต้านกลั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 spokes="8"/>
    <p:sndAc>
      <p:stSnd>
        <p:snd r:embed="rId3" name="QUEENS_5FBEAT1_5F79BPM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gradFill rotWithShape="0">
            <a:gsLst>
              <a:gs pos="0">
                <a:srgbClr val="993300">
                  <a:alpha val="70196"/>
                </a:srgbClr>
              </a:gs>
              <a:gs pos="50000">
                <a:srgbClr val="c8da6c">
                  <a:alpha val="35294"/>
                </a:srgbClr>
              </a:gs>
              <a:gs pos="100000">
                <a:srgbClr val="9933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635280" y="1052640"/>
                <a:ext cx="936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492360" y="2133720"/>
                <a:ext cx="1538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92360" y="3141720"/>
                <a:ext cx="232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403280" y="0"/>
            <a:ext cx="5454720" cy="368280"/>
          </a:xfrm>
          <a:prstGeom prst="rect">
            <a:avLst/>
          </a:prstGeom>
          <a:gradFill rotWithShape="0">
            <a:gsLst>
              <a:gs pos="0">
                <a:srgbClr val="474d4b"/>
              </a:gs>
              <a:gs pos="50000">
                <a:srgbClr val="9ca8a4"/>
              </a:gs>
              <a:gs pos="100000">
                <a:srgbClr val="474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แฟกเตอร์กำลัง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ำลังไฟฟ้าในวงจรไฟกระแสสลั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5616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000000"/>
                </a:solidFill>
                <a:latin typeface="Arial"/>
                <a:cs typeface="LilyUPC"/>
              </a:rPr>
              <a:t>กำลังไฟฟ้าปราก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 spokes="8"/>
    <p:sndAc>
      <p:stSnd>
        <p:snd r:embed="rId3" name="QUEENS_5FBEAT1_5F79BPM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gradFill rotWithShape="0">
            <a:gsLst>
              <a:gs pos="0">
                <a:srgbClr val="993300">
                  <a:alpha val="70196"/>
                </a:srgbClr>
              </a:gs>
              <a:gs pos="50000">
                <a:srgbClr val="c8da6c">
                  <a:alpha val="35294"/>
                </a:srgbClr>
              </a:gs>
              <a:gs pos="100000">
                <a:srgbClr val="993300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ca8a4"/>
              </a:gs>
              <a:gs pos="100000">
                <a:srgbClr val="474d4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dd9d1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7d80"/>
                </a:solidFill>
                <a:latin typeface="Arial"/>
                <a:cs typeface="LilyUPC"/>
              </a:rPr>
              <a:t>แฟกเตอร์กำลัง</a:t>
            </a:r>
            <a:endParaRPr b="0" lang="en-US" sz="4800" spc="-1" strike="noStrike">
              <a:solidFill>
                <a:srgbClr val="007d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51280" y="1916280"/>
                <a:ext cx="151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51280" y="2924280"/>
                <a:ext cx="1701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51280" y="4005360"/>
                <a:ext cx="1728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17800" y="4884840"/>
                <a:ext cx="1795680" cy="11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403280" y="0"/>
            <a:ext cx="5454720" cy="368280"/>
          </a:xfrm>
          <a:prstGeom prst="rect">
            <a:avLst/>
          </a:prstGeom>
          <a:gradFill rotWithShape="0">
            <a:gsLst>
              <a:gs pos="0">
                <a:srgbClr val="474d4b"/>
              </a:gs>
              <a:gs pos="50000">
                <a:srgbClr val="9ca8a4"/>
              </a:gs>
              <a:gs pos="100000">
                <a:srgbClr val="474d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แฟกเตอร์กำลัง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EucrosiaUPC"/>
              </a:rPr>
              <a:t>แฟกเตอร์กำ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  <p:sndAc>
      <p:stSnd>
        <p:snd r:embed="rId3" name="QUEENS_5FBEAT1_5F79BPM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5:57Z</dcterms:created>
  <dc:creator>ADMIN</dc:creator>
  <dc:description/>
  <dc:language>en-US</dc:language>
  <cp:lastModifiedBy>พี่อุอุ๊</cp:lastModifiedBy>
  <dcterms:modified xsi:type="dcterms:W3CDTF">2005-11-14T04:23:02Z</dcterms:modified>
  <cp:revision>67</cp:revision>
  <dc:subject/>
  <dc:title>งานนำเสนอ PowerPoint</dc:title>
</cp:coreProperties>
</file>